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8.png" ContentType="image/png"/>
  <Override PartName="/ppt/media/CARBRAKE.WAV" ContentType="audio/x-wav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6A96-19E9-4439-B336-F28A53668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EA08-5987-4399-88D9-B95AD24B9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34FE-B8E7-44FB-975E-70328BBC2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B5E3-95E2-417F-A400-21E353CBC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E3FAC-2743-43CF-8A9E-363F19E42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D271D-44FE-406E-9C50-0D6E62F31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5A578-30C1-42E7-A64B-293BA4DB3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393CE-0C4F-4646-A791-6816945CE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2FE24-E662-435C-A93C-5CF95A5B5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EBF53-DC95-4E17-93A6-88F7A3419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CAA36-0B7D-4F17-9EEF-A583F373E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2965-1E5C-4D87-82AB-F77794DD3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678C8-ADF2-4F90-8312-8D170F4C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A4DCA-E222-4804-936A-720D1B8B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E6AF1-72AE-4E52-A2C9-2AE9A23B2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2FE5A-F981-4438-A08B-F7EB98505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4D1FC-BF8D-4E49-82BC-EA7F41BF2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5742D-0502-43B1-AEF6-9644A5F32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AB030-5EF5-4277-8DA4-ECDD55815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4837D-6FDA-4DC0-A811-156B710E4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591BD-C76E-404F-87B9-F80E17F78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08B75-5EA6-45A3-B7A2-BA6B28F24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13B6-6F9B-44AA-B0B2-BEF68F484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A126E-7051-484A-B33E-BA44F5E52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34650-E05F-4F80-9B70-17BF4193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AE83F-BE9F-43D3-B552-71FD0590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39ACA-F9B9-4B80-8F51-2A4C00CAF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1C68D-74E3-4CDB-A639-A6E35262F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0ED1D-6BCE-4441-B6DC-2CFE0C275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76762-0B6C-485C-A7CC-01BFEE101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B8C4-1F24-471C-A360-E1C080286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7613-7A8B-4E6C-9839-913E56E51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E573-D21F-4401-BBDB-6B2F6B5BF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48B3-AB9F-4DEA-93FE-AA90CFC5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5C71-0D15-40C2-B2F1-94446A5C0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5230-6E93-4649-B7E8-3C9AB80A9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D0182-1431-42CB-84E8-83D36F0443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ED9DA-1929-46F6-9FED-6E50306814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DE308-D952-4555-B5C3-4F2C6123A9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L61Gp_d7evo" TargetMode="External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toWK0fIyFlY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opsci.com/science/article/2013-03/watch-absolutely-beautiful-animated-explainer-dna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f-ldPgEfAHI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Calibri"/>
              </a:rPr>
              <a:t>Mitosis and Meiosi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Cell Divi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2819520" cy="1828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"/>
          <p:cNvPicPr/>
          <p:nvPr/>
        </p:nvPicPr>
        <p:blipFill>
          <a:blip r:embed="rId2"/>
          <a:stretch/>
        </p:blipFill>
        <p:spPr>
          <a:xfrm>
            <a:off x="6172200" y="4343400"/>
            <a:ext cx="2971800" cy="2286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"/>
          <p:cNvPicPr/>
          <p:nvPr/>
        </p:nvPicPr>
        <p:blipFill>
          <a:blip r:embed="rId3"/>
          <a:stretch/>
        </p:blipFill>
        <p:spPr>
          <a:xfrm>
            <a:off x="0" y="4191120"/>
            <a:ext cx="2819520" cy="24429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"/>
          <p:cNvPicPr/>
          <p:nvPr/>
        </p:nvPicPr>
        <p:blipFill>
          <a:blip r:embed="rId4"/>
          <a:stretch/>
        </p:blipFill>
        <p:spPr>
          <a:xfrm>
            <a:off x="5638680" y="0"/>
            <a:ext cx="3505320" cy="25146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ph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5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3408480" cy="39625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9520" y="198108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osome conden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crotubles 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nuclear envelope breaks dow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aph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4114800" cy="41148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266720" y="198108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osomes are pulled to center of cel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ne up along “metaphase plate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2"/>
          <p:cNvSpPr/>
          <p:nvPr/>
        </p:nvSpPr>
        <p:spPr>
          <a:xfrm>
            <a:off x="4267080" y="1143000"/>
            <a:ext cx="22100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ro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" name="Straight Arrow Connector 8"/>
          <p:cNvCxnSpPr/>
          <p:nvPr/>
        </p:nvCxnSpPr>
        <p:spPr>
          <a:xfrm flipV="1">
            <a:off x="5181480" y="685440"/>
            <a:ext cx="76680" cy="381600"/>
          </a:xfrm>
          <a:prstGeom prst="straightConnector1">
            <a:avLst/>
          </a:prstGeom>
          <a:ln w="41400">
            <a:solidFill>
              <a:srgbClr val="0a6dc6"/>
            </a:solidFill>
            <a:miter/>
            <a:tailEnd len="med" type="arrow" w="med"/>
          </a:ln>
        </p:spPr>
      </p:cxnSp>
      <p:cxnSp>
        <p:nvCxnSpPr>
          <p:cNvPr id="157" name="Straight Arrow Connector 10"/>
          <p:cNvCxnSpPr/>
          <p:nvPr/>
        </p:nvCxnSpPr>
        <p:spPr>
          <a:xfrm flipV="1">
            <a:off x="4647960" y="3504600"/>
            <a:ext cx="153000" cy="1067400"/>
          </a:xfrm>
          <a:prstGeom prst="straightConnector1">
            <a:avLst/>
          </a:prstGeom>
          <a:ln w="41400">
            <a:solidFill>
              <a:srgbClr val="0a6dc6"/>
            </a:solidFill>
            <a:miter/>
            <a:tailEnd len="med" type="arrow" w="med"/>
          </a:ln>
        </p:spPr>
      </p:cxnSp>
    </p:spTree>
  </p:cSld>
  <p:transition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aph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0" y="1981080"/>
            <a:ext cx="3962520" cy="41148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581280" y="1143000"/>
            <a:ext cx="5562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entromeres div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pindle fibers pull one set of chromosomes to each po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cise alignment is critical to divi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cxnSp>
        <p:nvCxnSpPr>
          <p:cNvPr id="162" name="Straight Arrow Connector 3"/>
          <p:cNvCxnSpPr/>
          <p:nvPr/>
        </p:nvCxnSpPr>
        <p:spPr>
          <a:xfrm flipV="1">
            <a:off x="4114440" y="4114080"/>
            <a:ext cx="153000" cy="762840"/>
          </a:xfrm>
          <a:prstGeom prst="straightConnector1">
            <a:avLst/>
          </a:prstGeom>
          <a:ln w="60480">
            <a:solidFill>
              <a:srgbClr val="0a6dc6"/>
            </a:solidFill>
            <a:miter/>
            <a:tailEnd len="med" type="triangle" w="med"/>
          </a:ln>
        </p:spPr>
      </p:cxnSp>
    </p:spTree>
  </p:cSld>
  <p:transition>
    <p:checke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loph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Nuclear envelope form 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around chromosomes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Chromosomes uncoi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Cytokinesis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animals - pinching of plasma membrane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plants- elongates and the cell plate forms( future cellwall and cell membrane)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1029" descr=""/>
          <p:cNvPicPr/>
          <p:nvPr/>
        </p:nvPicPr>
        <p:blipFill>
          <a:blip r:embed="rId2"/>
          <a:stretch/>
        </p:blipFill>
        <p:spPr>
          <a:xfrm>
            <a:off x="6337440" y="1066680"/>
            <a:ext cx="2577960" cy="30481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telophase.jpg"/>
          <p:cNvPicPr/>
          <p:nvPr/>
        </p:nvPicPr>
        <p:blipFill>
          <a:blip r:embed="rId1"/>
          <a:stretch/>
        </p:blipFill>
        <p:spPr>
          <a:xfrm>
            <a:off x="504720" y="498600"/>
            <a:ext cx="8410680" cy="5673600"/>
          </a:xfrm>
          <a:prstGeom prst="rect">
            <a:avLst/>
          </a:prstGeom>
          <a:ln w="0">
            <a:noFill/>
          </a:ln>
        </p:spPr>
      </p:pic>
      <p:sp>
        <p:nvSpPr>
          <p:cNvPr id="168" name="TextBox 5"/>
          <p:cNvSpPr/>
          <p:nvPr/>
        </p:nvSpPr>
        <p:spPr>
          <a:xfrm>
            <a:off x="2057400" y="41148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lo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9" name="Straight Arrow Connector 7"/>
          <p:cNvCxnSpPr>
            <a:stCxn id="168" idx="0"/>
          </p:cNvCxnSpPr>
          <p:nvPr/>
        </p:nvCxnSpPr>
        <p:spPr>
          <a:xfrm flipV="1">
            <a:off x="3352320" y="3809160"/>
            <a:ext cx="686520" cy="305640"/>
          </a:xfrm>
          <a:prstGeom prst="straightConnector1">
            <a:avLst/>
          </a:prstGeom>
          <a:ln w="63360">
            <a:solidFill>
              <a:srgbClr val="0a6dc6"/>
            </a:solidFill>
            <a:miter/>
            <a:tailEnd len="med" type="triangle" w="med"/>
          </a:ln>
        </p:spPr>
      </p:cxnSp>
    </p:spTree>
  </p:cSld>
  <p:transition>
    <p:checke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4"/>
          <p:cNvSpPr/>
          <p:nvPr/>
        </p:nvSpPr>
        <p:spPr>
          <a:xfrm>
            <a:off x="685800" y="83808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Times New Roman"/>
                <a:hlinkClick r:id="rId1"/>
              </a:rPr>
              <a:t>Mitosis vid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Box 5"/>
          <p:cNvSpPr/>
          <p:nvPr/>
        </p:nvSpPr>
        <p:spPr>
          <a:xfrm>
            <a:off x="935640" y="1981080"/>
            <a:ext cx="60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bove link is an cell going through mito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4"/>
          <p:cNvSpPr/>
          <p:nvPr/>
        </p:nvSpPr>
        <p:spPr>
          <a:xfrm>
            <a:off x="1371600" y="2666880"/>
            <a:ext cx="60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0c0"/>
                </a:solidFill>
                <a:latin typeface="Times New Roman"/>
              </a:rPr>
              <a:t>Meiosi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1600200" y="0"/>
            <a:ext cx="60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What is Meiosi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457200" y="914400"/>
            <a:ext cx="82296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division of the nucleus that reduces chromosome number by half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mportant in sexual reprodu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volves combining the genetic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ation of one parent with that of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other parent to produce a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enetically unique individu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2d700"/>
                </a:solidFill>
                <a:uFillTx/>
                <a:latin typeface="Times New Roman"/>
                <a:hlinkClick r:id="rId1"/>
              </a:rPr>
              <a:t>https://www.youtube.com/watch?v=toWK0fIyF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900" spc="-1" strike="noStrike">
                <a:solidFill>
                  <a:srgbClr val="000000"/>
                </a:solidFill>
                <a:latin typeface="Calibri"/>
              </a:rPr>
              <a:t>Why Do Cells Divide?</a:t>
            </a:r>
            <a:br>
              <a:rPr sz="4900"/>
            </a:br>
            <a:br>
              <a:rPr sz="49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growth, repair, and reproduc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2590920" y="1523880"/>
            <a:ext cx="419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Terminolog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Calibri"/>
              </a:rPr>
              <a:t>Diploid</a:t>
            </a: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 - two sets of chromosomes (2n), in humans 23 pairs or 46 tota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Calibri"/>
              </a:rPr>
              <a:t>Haploid</a:t>
            </a: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 - one set of chromosomes (n) - gametes or sex cells, in humans 23 chromosomes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hecke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ploid vs Diploi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Content Placeholder 3" descr="haploid.png"/>
          <p:cNvPicPr/>
          <p:nvPr/>
        </p:nvPicPr>
        <p:blipFill>
          <a:blip r:embed="rId1"/>
          <a:stretch/>
        </p:blipFill>
        <p:spPr>
          <a:xfrm>
            <a:off x="1020600" y="1338120"/>
            <a:ext cx="6980400" cy="51390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hromosome Pairing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Homologous pai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ach chromosome in pair are identical to the other ( carry genes for same trait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nly one pair differs - sex chromosomes X or 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hecke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hases of Meiosi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diploid cell replicates its chromoso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stages of mei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eiosis I and Meiosis I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nly 1 replic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hecke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70c0"/>
                </a:solidFill>
                <a:latin typeface="Calibri"/>
              </a:rPr>
              <a:t>Meiosis I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Calibri"/>
            </a:endParaRPr>
          </a:p>
        </p:txBody>
      </p:sp>
    </p:spTree>
  </p:cSld>
  <p:transition>
    <p:checke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rophase I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romosomes conden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mologous chromosomes pair w/ each o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pair contains four sister chromatids – tetr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ossing over of non-sist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romatids (Increases genet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ari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Picture 4" descr=""/>
          <p:cNvPicPr/>
          <p:nvPr/>
        </p:nvPicPr>
        <p:blipFill>
          <a:blip r:embed="rId1"/>
          <a:stretch/>
        </p:blipFill>
        <p:spPr>
          <a:xfrm>
            <a:off x="5105520" y="1752480"/>
            <a:ext cx="4038480" cy="41911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Metaphase I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mologous chromosomes move to center of cel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4495680" y="1905120"/>
            <a:ext cx="3962520" cy="35049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Anaphase I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mologous chromosomes pulled to opposite po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4495680" y="1905120"/>
            <a:ext cx="4191120" cy="41148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Telophase I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ughter nuclei form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se are haploid (1n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4" descr=""/>
          <p:cNvPicPr/>
          <p:nvPr/>
        </p:nvPicPr>
        <p:blipFill>
          <a:blip r:embed="rId1"/>
          <a:stretch/>
        </p:blipFill>
        <p:spPr>
          <a:xfrm>
            <a:off x="4343400" y="1981080"/>
            <a:ext cx="4191120" cy="41148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70c0"/>
                </a:solidFill>
                <a:latin typeface="Calibri"/>
              </a:rPr>
              <a:t>Mitosi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rganisms grow by the 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addition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f ce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 multicellular organism some of these cells perform functions different from other cell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hecker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Meiosis II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ughter cells undergo a second division; much like mit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rophase II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pindle fibers form ag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4" descr=""/>
          <p:cNvPicPr/>
          <p:nvPr/>
        </p:nvPicPr>
        <p:blipFill>
          <a:blip r:embed="rId1"/>
          <a:stretch/>
        </p:blipFill>
        <p:spPr>
          <a:xfrm>
            <a:off x="4343400" y="1981080"/>
            <a:ext cx="4495680" cy="34718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aphase 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ister chromatids move to the cent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3809880" y="1981080"/>
            <a:ext cx="5334120" cy="46483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Anaphase II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entromeres spl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dividual chromosomes are pulled to po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Picture 5" descr=""/>
          <p:cNvPicPr/>
          <p:nvPr/>
        </p:nvPicPr>
        <p:blipFill>
          <a:blip r:embed="rId1"/>
          <a:stretch/>
        </p:blipFill>
        <p:spPr>
          <a:xfrm>
            <a:off x="4648320" y="2995560"/>
            <a:ext cx="3809880" cy="20862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Telophase II &amp; Cytokinesi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ur haploid daughter cells results from one original diploid cel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1"/>
          <a:stretch/>
        </p:blipFill>
        <p:spPr>
          <a:xfrm>
            <a:off x="4343400" y="2057400"/>
            <a:ext cx="4495680" cy="36576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Review Mitosis &amp; Meiosi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0" y="10663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th are forms of nuclear divi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th involve repl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th involve disappearance of the nucleus, and nucleolus, nuclear membr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th involve formation of spindle fib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hecker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Calibri"/>
              </a:rPr>
              <a:t>DIFFERENC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00"/>
                </a:solidFill>
                <a:latin typeface="Calibri"/>
              </a:rPr>
              <a:t>Meiosis</a:t>
            </a: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 produces daughter cells that have </a:t>
            </a:r>
            <a:r>
              <a:rPr b="1" lang="en-US" sz="4300" spc="-1" strike="noStrike">
                <a:solidFill>
                  <a:srgbClr val="000000"/>
                </a:solidFill>
                <a:latin typeface="Calibri"/>
              </a:rPr>
              <a:t>1/2</a:t>
            </a: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 the number of chromosomes as the parent.  Go from 2n to 1n.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00"/>
                </a:solidFill>
                <a:latin typeface="Calibri"/>
              </a:rPr>
              <a:t>Daughter cells</a:t>
            </a: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 produced by meiosis are </a:t>
            </a:r>
            <a:r>
              <a:rPr b="1" lang="en-US" sz="4300" spc="-1" strike="noStrike">
                <a:solidFill>
                  <a:srgbClr val="000000"/>
                </a:solidFill>
                <a:latin typeface="Calibri"/>
              </a:rPr>
              <a:t>not</a:t>
            </a: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 genetically </a:t>
            </a:r>
            <a:r>
              <a:rPr b="1" lang="en-US" sz="4300" spc="-1" strike="noStrike">
                <a:solidFill>
                  <a:srgbClr val="000000"/>
                </a:solidFill>
                <a:latin typeface="Calibri"/>
              </a:rPr>
              <a:t>identical</a:t>
            </a: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 to one another.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In </a:t>
            </a:r>
            <a:r>
              <a:rPr b="1" i="1" lang="en-US" sz="4300" spc="-1" strike="noStrike">
                <a:solidFill>
                  <a:srgbClr val="000000"/>
                </a:solidFill>
                <a:latin typeface="Calibri"/>
              </a:rPr>
              <a:t>meiosis</a:t>
            </a: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 cell division takes place </a:t>
            </a:r>
            <a:r>
              <a:rPr b="1" lang="en-US" sz="4300" spc="-1" strike="noStrike">
                <a:solidFill>
                  <a:srgbClr val="000000"/>
                </a:solidFill>
                <a:latin typeface="Calibri"/>
              </a:rPr>
              <a:t>twice </a:t>
            </a: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but replication occurs only</a:t>
            </a:r>
            <a:r>
              <a:rPr b="1" lang="en-US" sz="4300" spc="-1" strike="noStrike">
                <a:solidFill>
                  <a:srgbClr val="000000"/>
                </a:solidFill>
                <a:latin typeface="Calibri"/>
              </a:rPr>
              <a:t> once.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hecker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Value of Variation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Calibri"/>
              </a:rPr>
              <a:t>Variation</a:t>
            </a: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 - differences between members of a population.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Meiosis results in </a:t>
            </a:r>
            <a:r>
              <a:rPr b="0" i="1" lang="en-US" sz="4100" spc="-1" strike="noStrike">
                <a:solidFill>
                  <a:srgbClr val="000000"/>
                </a:solidFill>
                <a:latin typeface="Calibri"/>
              </a:rPr>
              <a:t>random separation</a:t>
            </a: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 of chromosomes in gametes.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Causes </a:t>
            </a:r>
            <a:r>
              <a:rPr b="0" i="1" lang="en-US" sz="4100" spc="-1" strike="noStrike">
                <a:solidFill>
                  <a:srgbClr val="000000"/>
                </a:solidFill>
                <a:latin typeface="Calibri"/>
              </a:rPr>
              <a:t>diverse populations</a:t>
            </a: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 that over time can be stronger for survival.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NA &amp; Chromoso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romosome – structure that is made of DNA and some prote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5" descr="Fig-5-4-Chromosome-DNA-Replication.jpg"/>
          <p:cNvPicPr/>
          <p:nvPr/>
        </p:nvPicPr>
        <p:blipFill>
          <a:blip r:embed="rId1"/>
          <a:stretch/>
        </p:blipFill>
        <p:spPr>
          <a:xfrm>
            <a:off x="1371600" y="2743200"/>
            <a:ext cx="6572160" cy="35337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NA &amp; Chromoso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6840" y="1600200"/>
            <a:ext cx="60958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NA – Molecule that contains the genetic information that determines the traits of all living organis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2d700"/>
                </a:solidFill>
                <a:uFillTx/>
                <a:latin typeface="Calibri"/>
                <a:hlinkClick r:id="rId1"/>
              </a:rPr>
              <a:t>http://www.popsci.com/science/article/2013-03/watch-absolutely-beautiful-animated-explainer-d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3" descr="DNA.png"/>
          <p:cNvPicPr/>
          <p:nvPr/>
        </p:nvPicPr>
        <p:blipFill>
          <a:blip r:embed="rId2"/>
          <a:stretch/>
        </p:blipFill>
        <p:spPr>
          <a:xfrm>
            <a:off x="6708600" y="1828800"/>
            <a:ext cx="2435400" cy="37339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Cell Cyc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ell Division vs. Nuclear Divi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16761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ytokinesis:  The actual division of the cell into two new cel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tosis:  The division of the chromoso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2d700"/>
                </a:solidFill>
                <a:uFillTx/>
                <a:latin typeface="Calibri"/>
                <a:hlinkClick r:id="rId1"/>
              </a:rPr>
              <a:t>https://www.youtube.com/watch?v=f-ldPgEfAH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Do Cells Divide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Cell cycl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- sequence of phases in the life cycle of the cel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1676520" y="2971800"/>
            <a:ext cx="5790960" cy="34290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etting ready to spl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Cell cycle has two part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rowth and prepar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romosomes make a copy of themselves – a process called replic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ell divi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itosis (nuclear division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ytokinesis (cytoplasm division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5T16:55:31Z</dcterms:created>
  <dc:creator>cfisd</dc:creator>
  <dc:description/>
  <dc:language>en-US</dc:language>
  <cp:lastModifiedBy>Karen Edmonds</cp:lastModifiedBy>
  <dcterms:modified xsi:type="dcterms:W3CDTF">2017-03-14T14:38:02Z</dcterms:modified>
  <cp:revision>49</cp:revision>
  <dc:subject/>
  <dc:title>Mitosis and Meiosis</dc:title>
</cp:coreProperties>
</file>